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00A0-17CA-4B39-B291-98C591C20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439B4-1CDB-425E-8C5F-6392E94C4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9F4A-A0CE-414F-91F7-BE00FD7A4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EAC1F-777D-4888-BD44-15BAB4F15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559EF-FB8F-43A9-8B81-DC713C091A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C98F3-BF00-4745-8C1C-06767D2DEA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11CCD-A9BC-4FBD-B5EE-145CA93091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75582-9AF9-4E8E-838F-210BFE7386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04FF0-CAE9-4FC3-BCE5-11684569B2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BE10F-6397-470B-913D-0AD8352E55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14F5C-0B6C-4126-AFB2-BD35AA59F9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4D61A-A8D7-443F-A078-A29A9E64F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18859-0A87-43F2-A47C-51470022DB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288FE-A5A0-4441-9013-88A6AA58D6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8F529-FEB8-49A8-80EE-FFCFFA6AB4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64BBD-9344-4332-B4B2-0CB20B554B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6EB05-C08A-465A-B5A2-1CD4A20CBC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ECA1D-B602-4665-ABFA-4133918D4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88FDA-0796-4E31-9FBD-8247C7B67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EBFF6-A659-45A5-871D-8F21F78F3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B62A0-2D5C-4D96-AD95-70F1339E7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79FDB-6608-4C92-828A-DD730520D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41A47-FC1A-4895-9AD9-1C2A1E790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3B52-CDB8-4C85-A831-E6E4C8FEC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0740402-F490-4AA4-BCCF-E0F6B9110E1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C4579BD-2156-4986-958A-0EC42858E5E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" descr=""/>
          <p:cNvPicPr/>
          <p:nvPr/>
        </p:nvPicPr>
        <p:blipFill>
          <a:blip r:embed="rId2"/>
          <a:stretch/>
        </p:blipFill>
        <p:spPr>
          <a:xfrm>
            <a:off x="5796000" y="189000"/>
            <a:ext cx="254304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508720" y="326880"/>
            <a:ext cx="2938320" cy="420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41AC110-D648-46D8-BFA7-E3D88A91BC21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8FCA1E1-3B03-4291-BB6E-8CF717260540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0-10-08T11:59:35Z</dcterms:modified>
  <cp:revision>318</cp:revision>
  <dc:subject/>
  <dc:title>REGRESSION ANALYSIS</dc:title>
</cp:coreProperties>
</file>